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714-42AA-429A-957F-50C176EA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616-06B2-4E57-B785-1C43AD1C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959-A9BE-4B29-91EC-AF885D9D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2B3-6E0E-4819-B080-98E2D85E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53C-7BCF-4493-9857-4E3E0135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E23-82D9-4EB3-AFDB-57288D52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412-F59C-46C9-8722-EDA9D9EC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1BF-1DDB-4AF1-B006-C7A03DB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5DE-4EC8-499F-B4DB-BACBD42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C43-3702-41E5-8365-5BC4481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44E-D372-4F31-8518-7470B3A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79B-DCD3-435F-BF01-D0BAC5D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032-77FD-4363-A619-2F5DB84B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Came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rs can be put at almost any focus, but most commonly they are put at prime focus or at casseg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400000">
            <a:off x="3375360" y="2872080"/>
            <a:ext cx="19558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ft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up with a long strip image of the sky with a `height’ = the CCD width and a length set by how long you let the drift run (or by how big your disk storag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ky goes by at 15 arcseconds/second at the celestial equator and slower than this by a factor of 1/cos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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you move to the p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at the equator, PFCam, with 2048 x 0.3” pixels you get an integration time per object of about 40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ft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b flat-fielding (measure objects on many pixels and average out QE variatio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efficient (don’t have CCD readout, telescope set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t the equator do objects move in straight lines, as you move toward the poles, the motion of stars is in an arc centered on the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an digital survey is a good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ritsky Great Circle Camera is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ors (ESO transition to CCD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59500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2362320" y="3657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080" y="463248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stronomical CCD, JPL 400x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xels/Cam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49449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F f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 sources (surface phot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-galaxy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bunch of filte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-band   (~1000Å w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row-band (~10Å w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ere developed to address particular astrophysical problems, some are less sen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48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52280"/>
            <a:ext cx="5018040" cy="6492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281952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00Å is the UV atmospheric cu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71600" y="190512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438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µ silicon band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91320" y="274320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Choic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you want to measure the effective temperature of the main-sequence turnoff in a globular clu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  relative time to r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V              4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R            1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I               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R               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657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ow-band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ways interference filters and the bandpass is affected by temperature and beam sp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WL = 1Å/5˚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WL = 17Å; f/13      f/2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286160"/>
            <a:ext cx="246240" cy="209520"/>
          </a:xfrm>
          <a:prstGeom prst="rightArrow">
            <a:avLst>
              <a:gd name="adj1" fmla="val 50000"/>
              <a:gd name="adj2" fmla="val 293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erture Phot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Costa, 1992, ASP Conf Ser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tson,    1987, PASP, 99, 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tson,    1990, PASP, 102,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2222640" cy="20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051440" y="4724280"/>
            <a:ext cx="1206360" cy="1206720"/>
          </a:xfrm>
          <a:prstGeom prst="ellipse">
            <a:avLst/>
          </a:prstGeom>
          <a:noFill/>
          <a:ln w="9360">
            <a:solidFill>
              <a:srgbClr val="fb2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92600" y="4432320"/>
            <a:ext cx="1736640" cy="1736640"/>
          </a:xfrm>
          <a:prstGeom prst="ellipse">
            <a:avLst/>
          </a:prstGeom>
          <a:noFill/>
          <a:ln w="9360">
            <a:solidFill>
              <a:srgbClr val="fb2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51814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267080"/>
            <a:ext cx="2454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counts in all pixels in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440" y="4267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70360"/>
            <a:ext cx="2286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sky in annulus, subtract off sky/pixel in central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ale of a focus is giv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206265/(D x f#)  (arcsec/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m  @f/5    (prime) 13.8 arcsec/mm (0.33”/24µ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m  @f/3    (prime)  68.7 arcsec/mm (1.56”/24µ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m  @f/17   (cass)   12.1 arcsec/mm  (0.29”/24µ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 @f/1.5 (prime) 11.5 arcsec/mm (0.27”/24µ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 @f/15   (cass)   1.15 arcsec/mm (0.03”/24µ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cassegrain (parabolic primary + convex hyperbolic in front of prime focus) has significant c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57400" y="4952880"/>
                <a:ext cx="40957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for 3m prime focus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@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rture Phot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743200" y="2133720"/>
                <a:ext cx="30891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x</m:t>
                        </m:r>
                      </m:sub>
                    </m:sSub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sky/pixe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V="1">
            <a:off x="1981080" y="25142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114440" y="2590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276720"/>
            <a:ext cx="2895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unts in aperture from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657240" y="25909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640" y="4495680"/>
            <a:ext cx="407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 in each pixel in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8520" y="3429000"/>
            <a:ext cx="370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ixels in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5410080"/>
            <a:ext cx="34066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2.5log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rture Phot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erture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ual approach is to use ``marginal sums’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309760" y="4114800"/>
            <a:ext cx="452268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2666880"/>
                <a:ext cx="1481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945240" y="272736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um along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98108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5867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8006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1480" y="5867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inal S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oise and multiple sources you have to decide what is a source and to isolate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33720" y="3429000"/>
            <a:ext cx="4522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peaks: use ∂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∂x z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 peaks: use ``symmetry cleaning’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pairs of points equidistant from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centers: Intensity-weighted cent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66880" y="4800600"/>
                <a:ext cx="363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nte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for centers: Gaussian fit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OPHOT FIND algorithm uses marginal sums in subrasters, symmetry cleaning, reraster and Gaussian 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676520" y="1143000"/>
                <a:ext cx="5256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ckgroun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h·e</m:t>
                        </m:r>
                      </m:e>
                      <m: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s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 flipV="1">
            <a:off x="4114800" y="17521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86728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259092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of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9800" y="2362320"/>
            <a:ext cx="238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termine the sky, typically use a local annulus, evaluate the distribution of counts in pixels in a way to reject the bias toward higher-than-background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3 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3600">
            <a:off x="3963960" y="51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39600">
            <a:off x="291600" y="25974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of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0600" y="990720"/>
            <a:ext cx="3896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 (peak of this 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6080" y="2666880"/>
            <a:ext cx="2242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hmetic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1160" y="1828800"/>
            <a:ext cx="3952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n (1/2 above, 1/2 be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56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200040" y="281916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42840" y="19047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5627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essentially all deviations from the sky are positive counts (stars and galaxies), the mode is the best approximation to the sk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mall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xels are square. What about the partial pixels at a given radius? Usual approach is to assume uniform brightness throughout pixel and calculate fraction with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aperture ce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aperture siz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rture size and growth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it is VERY hard to measur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ght as some light is scattered to very large rad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4743360" cy="316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181480" y="4572000"/>
            <a:ext cx="3733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intensity distribution for a bright, isolated s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0840" y="6248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from center in pi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514240" y="563832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276720" y="5257440"/>
            <a:ext cx="2133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4360" y="577548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/outer sky rad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600200" y="3657600"/>
            <a:ext cx="37339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04812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you have most of the light within this radi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classical cassegrain focus or prime focus with a parabolic primary you need a cor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chey-Chretien design has a hyperbolic primary and secondary designed to balance out coma and astigmatism in the focal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l intensity distribution for a faint s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5429160" cy="361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523880" y="2666880"/>
            <a:ext cx="304920" cy="1320840"/>
          </a:xfrm>
          <a:custGeom>
            <a:avLst/>
            <a:gdLst/>
            <a:ahLst/>
            <a:rect l="l" t="t" r="r" b="b"/>
            <a:pathLst>
              <a:path w="192" h="832">
                <a:moveTo>
                  <a:pt x="0" y="0"/>
                </a:moveTo>
                <a:cubicBezTo>
                  <a:pt x="12" y="152"/>
                  <a:pt x="24" y="304"/>
                  <a:pt x="48" y="432"/>
                </a:cubicBezTo>
                <a:cubicBezTo>
                  <a:pt x="72" y="560"/>
                  <a:pt x="120" y="704"/>
                  <a:pt x="144" y="768"/>
                </a:cubicBezTo>
                <a:cubicBezTo>
                  <a:pt x="168" y="832"/>
                  <a:pt x="180" y="824"/>
                  <a:pt x="192" y="816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32320" y="105084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frames as previou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09680" y="41144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10080" y="577548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ght star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2209680"/>
            <a:ext cx="24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ngs of a faint star are lost to sky noise at a different radius than the wings of a bright s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l profile with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018040" cy="33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 flipV="1">
            <a:off x="4267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124080" y="2286000"/>
            <a:ext cx="28958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85840" y="2286000"/>
            <a:ext cx="21337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2133720"/>
            <a:ext cx="23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OK in sky annulus (mode), trouble in star aper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approach is to use `growth curv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 is to use a small aperture (highest S against background and smaller chance of contamination) for everything and determine a correction to larger radii based on several relatively isolates, relatively bright stars in a 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! This assumes a linear response so that all point sources have the same fraction of light within a given rad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ll, 1989, PASP, 101, 6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52320" y="353880"/>
            <a:ext cx="783756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1647720" y="3521160"/>
            <a:ext cx="136800" cy="136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481560"/>
            <a:ext cx="228600" cy="2286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408480"/>
            <a:ext cx="381240" cy="380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6520" y="3289320"/>
            <a:ext cx="593640" cy="5936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6160" y="3200400"/>
            <a:ext cx="761760" cy="762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18320" y="3787920"/>
            <a:ext cx="136440" cy="136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86560" y="3652920"/>
            <a:ext cx="411120" cy="411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80160" y="3736800"/>
            <a:ext cx="228600" cy="2286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38960" y="3505320"/>
            <a:ext cx="685800" cy="685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3480" y="3579840"/>
            <a:ext cx="547560" cy="5475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3840" y="5308560"/>
            <a:ext cx="547920" cy="5475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99080" y="5460840"/>
            <a:ext cx="228600" cy="2286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10160" y="5372280"/>
            <a:ext cx="411120" cy="4111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57880" y="5232240"/>
            <a:ext cx="685800" cy="685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37240" y="5499000"/>
            <a:ext cx="152280" cy="1526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wth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00200" y="1905120"/>
          <a:ext cx="617220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761760"/>
                <a:gridCol w="685800"/>
                <a:gridCol w="685800"/>
                <a:gridCol w="685800"/>
                <a:gridCol w="685800"/>
                <a:gridCol w="685800"/>
                <a:gridCol w="76212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er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#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#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#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#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5638680" y="2971800"/>
            <a:ext cx="2133720" cy="38088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962520"/>
            <a:ext cx="2590560" cy="380880"/>
          </a:xfrm>
          <a:prstGeom prst="rect">
            <a:avLst/>
          </a:prstGeom>
          <a:solidFill>
            <a:srgbClr val="ff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4495680"/>
            <a:ext cx="1981080" cy="381240"/>
          </a:xfrm>
          <a:prstGeom prst="rect">
            <a:avLst/>
          </a:prstGeom>
          <a:solidFill>
            <a:srgbClr val="ff00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029200"/>
            <a:ext cx="1371600" cy="38088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990720"/>
            <a:ext cx="192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 for apertures n-1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44792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615636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of these is the total aperture correction to be added to magnitude measured in apertu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5486400"/>
            <a:ext cx="487656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809520" y="6019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838080"/>
            <a:ext cx="6400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16600" y="5549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451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344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49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9640" y="6162840"/>
            <a:ext cx="218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rtu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-1320480" y="3060000"/>
            <a:ext cx="3405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[aper(n+1) - aper(n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49400" y="5715000"/>
            <a:ext cx="52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      10          15           20           25        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60" y="5059440"/>
            <a:ext cx="7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080" y="41752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8880" y="3230640"/>
            <a:ext cx="7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1760" y="2255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2920" y="1249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530388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35268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281952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59092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251460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51460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4313160"/>
            <a:ext cx="228600" cy="182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9240" y="5410080"/>
            <a:ext cx="152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228600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28600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57880" y="2146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67160" y="274320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05040" y="3505320"/>
            <a:ext cx="152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0480" y="42670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35000" y="536400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320040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92200" y="411480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40320" y="167652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300204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269712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1800" y="1752480"/>
            <a:ext cx="274680" cy="2746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167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, 1990, PASP, 102, 932 presented a fitting function for growth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ussian core + exponential + inverse power law for large 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rture Photometry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brightness pe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295280" y="2819520"/>
                <a:ext cx="35100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ky</m:t>
                    </m:r>
                    <m:r>
                      <m:t xml:space="preserve">·</m:t>
                    </m:r>
                    <m:r>
                      <m:rPr>
                        <m:lit/>
                        <m:nor/>
                      </m:rPr>
                      <m:t xml:space="preserve">aperture are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63200" y="2789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77800" y="3565440"/>
            <a:ext cx="2471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mall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962520" y="32000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240" y="4206960"/>
            <a:ext cx="71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n ``aperture correction’’ determined from bright, isolated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9200" y="5715000"/>
            <a:ext cx="803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, fast, works well except for the case of overlapping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ded-field Phot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as assumed for aperture corrections, all point sources have the same PSF (linear detec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codes have been written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star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of P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ting of PSF to (multiple)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OPHOT, ROMAPHOT, DOPHOT, STA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spend some time on the use of DAOP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P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tson, 1987, PASP, 99, 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tson, DAOPHOT Users’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ubrout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STAR (DAOPHOT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parameter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ophot.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.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Camera design/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5146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1480" y="2668680"/>
            <a:ext cx="155880" cy="7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514600"/>
            <a:ext cx="121932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429000"/>
            <a:ext cx="5331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048120"/>
            <a:ext cx="7596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2362320"/>
            <a:ext cx="763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187800"/>
            <a:ext cx="1905120" cy="635040"/>
          </a:xfrm>
          <a:custGeom>
            <a:avLst/>
            <a:gdLst/>
            <a:ahLst/>
            <a:rect l="l" t="t" r="r" b="b"/>
            <a:pathLst>
              <a:path w="1200" h="400">
                <a:moveTo>
                  <a:pt x="0" y="8"/>
                </a:moveTo>
                <a:cubicBezTo>
                  <a:pt x="144" y="4"/>
                  <a:pt x="288" y="0"/>
                  <a:pt x="432" y="56"/>
                </a:cubicBezTo>
                <a:cubicBezTo>
                  <a:pt x="576" y="112"/>
                  <a:pt x="736" y="288"/>
                  <a:pt x="864" y="344"/>
                </a:cubicBezTo>
                <a:cubicBezTo>
                  <a:pt x="992" y="400"/>
                  <a:pt x="1096" y="396"/>
                  <a:pt x="120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657600"/>
            <a:ext cx="14475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886200"/>
            <a:ext cx="2971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419720"/>
            <a:ext cx="3581280" cy="7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572000"/>
            <a:ext cx="3581280" cy="7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724280"/>
            <a:ext cx="3581280" cy="7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2996400">
            <a:off x="723600" y="435240"/>
            <a:ext cx="5486040" cy="64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28" y="18"/>
                </a:moveTo>
                <a:arcTo wR="10800" hR="10800" stAng="-5200042" swAng="5200042"/>
                <a:lnTo>
                  <a:pt x="10800" y="10800"/>
                </a:lnTo>
                <a:close/>
              </a:path>
              <a:path fill="none" w="21600" h="21600">
                <a:moveTo>
                  <a:pt x="11428" y="18"/>
                </a:moveTo>
                <a:arcTo wR="10800" hR="10800" stAng="-5200042" swAng="52000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185904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2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65440" y="1965240"/>
            <a:ext cx="20732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ar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am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776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24382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560" y="27432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00400" y="3048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8720" y="35352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f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66680" y="35812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50760" y="34290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elded cable to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93720" y="35053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u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200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60360" y="391644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23920" y="40384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03800" y="4403880"/>
            <a:ext cx="27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 corrector/A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4197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11560" y="585144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ophot.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=65635       (in cou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=5            (in standard deviations: sky-5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=3.9         (gain in e-/d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=2.05        (readout noise in units of D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=3              (PSF fitting radi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=12            (PSF radi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=3.5           (threshold in units of sky standard devi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=-6           (analytical form of PS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=-2           (`watch’ - level of verbosity for feedb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=2             (spatial variability of PS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.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=3           (1st aperture radius=3 pixels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2=0           (if a zero is encountered, DAOPHOT ignores the rest of the apert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9=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=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=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=35           (inner sky radi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=45          (outer sky radi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PHOT F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gain, RN, HIBAD, LOBAD, FW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convolves the frame with a gaussian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WHM/2.35. This improves the S/N for objects with a point-source PS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brasters, constructs marginal sums and uses derivative zeros to isol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s two 1-D gaussian in x and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s ``sharpness’’ and ``roundness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s a .coo file with: n,x,y,mag,sharp,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right threshold with a couple easy t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#stars found vs threshol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RA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vma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ut dots at the x,y positions in the .coo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file default name is framename.c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ime through a frame, the strong blends will not be properly parsed into individual centro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photo.opt file in directory to define apertures and sky ann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input .co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s sky-subtracted magnitude for each aperture (usually only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s the sky value for each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framename.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F uses stars on the frame to create a PSF. DAOPHOT uses an analytical core plus a 2-D lookup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star: m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.5log(psf scaling fa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OPHOT options are variants on bivari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585880" y="4495680"/>
                <a:ext cx="32814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µ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Gaussian</m:t>
                        </m:r>
                      </m:e>
                      <m:e>
                        <m:r>
                          <m:t xml:space="preserve">µ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s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α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Moffe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165320" y="61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ting radius: ~FWHM; PSF radius: ~ 4 x FW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struct a P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unsaturated, relatively isolated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SF varies over the frame, sample the ful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1st iteration of the PS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psf-star neighb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nother PS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of PSF routine is a framename.psf which has a header containing the parameters defining the analytical function and an encoded look up table of res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109000">
            <a:off x="5439960" y="3246480"/>
            <a:ext cx="612720" cy="520560"/>
          </a:xfrm>
          <a:custGeom>
            <a:avLst/>
            <a:gdLst>
              <a:gd name="textAreaLeft" fmla="*/ 0 w 612720"/>
              <a:gd name="textAreaRight" fmla="*/ 613080 w 612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5870000">
            <a:off x="639720" y="3169800"/>
            <a:ext cx="612720" cy="520560"/>
          </a:xfrm>
          <a:custGeom>
            <a:avLst/>
            <a:gdLst>
              <a:gd name="textAreaLeft" fmla="*/ 0 w 612720"/>
              <a:gd name="textAreaRight" fmla="*/ 613080 w 612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star (DAOPHOT 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.ap file and .psf as input (x,y,sky for every ob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PSF radius, group objects into sets that need to be simultaneously fitted with PS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 PSFs to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: framename.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, y, mag, ∂mag, 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4280" y="6172200"/>
            <a:ext cx="70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ing factor     ratio of actual psf fit to how well it should have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057400" y="5867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5791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16040" y="609480"/>
            <a:ext cx="411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PHOT 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(frame.c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 (frame.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F loop (frame.ps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star (frame.als, frames.f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subtracted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(frames.c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 (frames.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two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343400" y="259056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6080" y="21178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-subtracted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951520" cy="5751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051440" y="838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73392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6920" y="8254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0240" y="158436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000" y="46324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2438280"/>
            <a:ext cx="1828800" cy="99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2438280"/>
            <a:ext cx="1828800" cy="99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29718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7621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37339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7621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121932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00400" y="1523880"/>
            <a:ext cx="236232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2819520"/>
            <a:ext cx="7621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143000" y="2362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800" y="2498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u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for many years has been multi-leaf iris shutters. As detectors got bigger and bigger, the finite opening time and non-uniform illumination pattern started to caus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k x 2k 24µ CCD is 2.8 inches along a diag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iris shutter - 50 milliseconds to open. Center of a 1s exposure is exposed 10% longer than the cor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DAOP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usually want to combine photometry in each filter and match up stars in different filters to determine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need to determine the coordinate transformation between frames. You can do this and comb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otomet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RAF, use a list of a matched star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o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o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tandalone Stetson programs to  combine DAOPHOT-format photometry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OMATCH uses the Method of Matching Triangles. Triangle side length ratios are invariant under rotation, translation, scale change and ``flip’’. Groth, 1986, AJ, 91, 1244. (note: #triangles goes like n!/[3!(n-3)!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bright stars in two files, identify matching triangles, solve for coefficient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743200" y="4952880"/>
                <a:ext cx="27874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ithered fr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 - x,y off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F ~ 1 (scale changes in x and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E ~ 0 (cross-terms are non-zero for ro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is with .als files and produce a .mch file with the coordinate transformations. This  is usually used as the first guess, to be fed into DAO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O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OMASTER takes the DAOMATCH .mch files with transformations and a list of .als files and (1) refines the transformations using all matched stars, (2) derives robust photometric offsets between frames and (3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verages measurements (remember to never average magnitud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metric Cal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otometric standard systems have tended to be zero-pointed arbitrarily. Vega is the most widely used and was original defined with V= 0 and all colors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es &amp; Latham (1975, ApJ, 197, 587) put the Vega scale on an absolute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 scale (Oke, 1974, ApJS, 27, 21) is a physical-unit-based scal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(AB) = -2.5log(f) - 48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nochromatic flux is in  units of erg/sec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Hz. Objects with constant flux/unit frequency interval have zero color on this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metric cal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n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600200" y="2895480"/>
                <a:ext cx="42958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I·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 flipH="1">
            <a:off x="4191120" y="228600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2779920" y="3462480"/>
            <a:ext cx="380880" cy="1527120"/>
          </a:xfrm>
          <a:custGeom>
            <a:avLst/>
            <a:gdLst>
              <a:gd name="textAreaLeft" fmla="*/ 0 w 380880"/>
              <a:gd name="textAreaRight" fmla="*/ 137520 w 38088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61280" y="20415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64760" y="440388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metric Cal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nitude you need to observe some standard stars and solve for the constants in an equation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184400" y="3773520"/>
                <a:ext cx="67960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lo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T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lo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 flipH="1">
            <a:off x="1066320" y="4191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4114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2240" y="4572000"/>
            <a:ext cx="1342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nd m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5920" y="5324400"/>
            <a:ext cx="134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 m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28840" y="4648320"/>
            <a:ext cx="566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191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59436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inction coeff (mag/airm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46040" y="4486320"/>
            <a:ext cx="111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41911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88720" y="4562640"/>
            <a:ext cx="151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nction coeffici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with decreasing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vary by 50% over time and by some amount during a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easured by observing standards at a range of airmass during the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37240" y="3336840"/>
            <a:ext cx="199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pe of this line i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 rot="5400000">
            <a:off x="2133000" y="2361960"/>
            <a:ext cx="3441600" cy="4660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H="1">
            <a:off x="5257800" y="37339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or te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e about through mismatches between the effective bandpasses of your filter system and those of the standard system. Objects with different spectral shapes have different off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 rot="5400000">
            <a:off x="2882520" y="1536480"/>
            <a:ext cx="32893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52280" y="368280"/>
            <a:ext cx="6343920" cy="5942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024680" y="2895480"/>
            <a:ext cx="120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546084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359424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17398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20280" y="524196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=0.0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29718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utter vignetting pattern produced by dividing a 1 second exposure by a 30 second expo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2040" y="2057400"/>
            <a:ext cx="37576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280" y="363600"/>
            <a:ext cx="6224760" cy="6037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651360" y="2803680"/>
            <a:ext cx="21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0720" y="351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53593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1676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43960" y="53182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=0.0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5762880" cy="5486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38080" y="5029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3276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15238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91760" y="3048120"/>
            <a:ext cx="311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-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10440" y="51656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=0.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metric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olt (1992, AJ, 104, 33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tson (2000, PASP, 112, 9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containing several well measured stars of similar brightness and a big range in color. The blue stars are the hard ones to find and several fields are center on PG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the fields over at least the the airmass range of your program objects and intersperse standard field observations throughout the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85800" y="1576440"/>
            <a:ext cx="7772400" cy="3552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68920" y="91440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Landol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er of the Stnd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observe standard fields on a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…………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rogram fields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measured with growth-curve aperture photometry to estimate the `total’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stars measured via frame-dependent PSF scal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rogram field you need to find the magnitude difference between the PSF and `total’ light -- 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erture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rture correction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finding and PSF fitting stars on a frame, subtract the fitted PSFs for all but 20 or 30 relatively isolated objects (after the subtraction, they are hopefully very iso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growth-curve photometry on the frame and fi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ets added to all the PSF-based magnitudes on th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check for position-bas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514600" y="3581280"/>
                <a:ext cx="37209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F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erture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/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-slid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ution for mosaic imagers and large-format CCD has been to go to a 35mm camera style double-slid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0528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Wh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you put the filter? There is a trade off between filter size and how well focused dust and filter imperfections a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27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ft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esting option for imaging is to park the telescope (or drive it at a non-sidereal rate) and let the sky drift 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out the CCD at the rate the sky goes by and the accumulating charge ``follows’’ the star image along the C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492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6:46:00Z</dcterms:created>
  <dc:creator>Mike Bolte</dc:creator>
  <dc:description/>
  <dc:language>en-US</dc:language>
  <cp:lastModifiedBy>Michael Bolte</cp:lastModifiedBy>
  <cp:lastPrinted>2004-04-18T03:17:25Z</cp:lastPrinted>
  <dcterms:modified xsi:type="dcterms:W3CDTF">2006-04-25T19:55:06Z</dcterms:modified>
  <cp:revision>34</cp:revision>
  <dc:subject/>
  <dc:title>AY257: Modern Observational Techniques</dc:title>
</cp:coreProperties>
</file>