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ct" ContentType="image/x-pict"/>
  <Override PartName="/ppt/media/image1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E8DF-CE3E-489A-937A-A2ABD426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1B5-567B-422E-86EE-E4F67606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B68-0410-424C-AAC1-6C845870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B552-B5D6-4EAC-A6C2-790F455F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3C4-20B6-4BB7-85F6-BDED0C6E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B1F4-5711-4261-B9DD-8BB8537F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127-A0D4-43F2-B36C-D42CFDEB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1148-388C-48CC-85C8-92F60229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4AC-E8E2-4490-82C5-F2E641E0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972-56B0-4938-85D2-477656B9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1CF-3CEE-4B54-AE61-DA9ED718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DC5-B9E4-43FA-8DC6-A8FE9453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1834-E31F-468F-9E1B-181CCD0C4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dsabs.harvard.edu/abstract_service.html" TargetMode="External"/><Relationship Id="rId3" Type="http://schemas.openxmlformats.org/officeDocument/2006/relationships/hyperlink" Target="http://adsabs.harvard.edu/abstract_service.html" TargetMode="External"/><Relationship Id="rId4" Type="http://schemas.openxmlformats.org/officeDocument/2006/relationships/hyperlink" Target="http://adsabs.harvard.edu/abstract_service.html" TargetMode="External"/><Relationship Id="rId5" Type="http://schemas.openxmlformats.org/officeDocument/2006/relationships/hyperlink" Target="http://adsabs.harvard.edu/abstract_service.html" TargetMode="External"/><Relationship Id="rId6" Type="http://schemas.openxmlformats.org/officeDocument/2006/relationships/hyperlink" Target="http://adsabs.harvard.edu/abstract_service.html" TargetMode="External"/><Relationship Id="rId7" Type="http://schemas.openxmlformats.org/officeDocument/2006/relationships/hyperlink" Target="http://adsabs.harvard.edu/abstract_service.html" TargetMode="External"/><Relationship Id="rId8" Type="http://schemas.openxmlformats.org/officeDocument/2006/relationships/hyperlink" Target="http://adsabs.harvard.edu/abstract_service.html" TargetMode="External"/><Relationship Id="rId9" Type="http://schemas.openxmlformats.org/officeDocument/2006/relationships/hyperlink" Target="http://au.arxiv.org/archive/astro-ph" TargetMode="External"/><Relationship Id="rId10" Type="http://schemas.openxmlformats.org/officeDocument/2006/relationships/hyperlink" Target="http://cdsweb.u-strasbg.fr/CDS.html" TargetMode="External"/><Relationship Id="rId11" Type="http://schemas.openxmlformats.org/officeDocument/2006/relationships/hyperlink" Target="http://simbad.u-strasbg.fr/" TargetMode="External"/><Relationship Id="rId12" Type="http://schemas.openxmlformats.org/officeDocument/2006/relationships/hyperlink" Target="http://nedwww.ipac.caltech.edu/" TargetMode="External"/><Relationship Id="rId1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adcwww.dao.nrc.ca/" TargetMode="External"/><Relationship Id="rId3" Type="http://schemas.openxmlformats.org/officeDocument/2006/relationships/hyperlink" Target="http://www.sdss.org/" TargetMode="External"/><Relationship Id="rId4" Type="http://schemas.openxmlformats.org/officeDocument/2006/relationships/hyperlink" Target="http://arch-http.hq.eso.org/ESO-ECF-Archive.html" TargetMode="Externa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-Energy Astr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s: x-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1 Kev           1Kev        10 Kev       100K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z         3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z   3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z    3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4Å               12.4Å        1.24Å         0.124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”       -----------------------------    “ha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0120" y="1905120"/>
            <a:ext cx="129060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ive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-ray types use the “effective area” to characterize their fac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ng area x absorption in windows/filters x detector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2916000" cy="2700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478760" y="493704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CE"/>
              </a:rPr>
              <a:t>ROSAT effectiv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Ds and X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have about 100% QE for most of the xray band. Don’t need gas supply, no threshold in energy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problem is that CCDs are sensitive to low energy photons too. The solution is to use filters (polycarbonate + aluminum). These filters have some odd transmission cur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4840200" cy="5486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38680" y="304920"/>
            <a:ext cx="3200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CE"/>
              </a:rPr>
              <a:t>Absorption edges are the photoelectric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CE"/>
              </a:rPr>
              <a:t>The crossection for absorption takes a jump at the ionization energy of a particular atomic level, then decreases approximately lik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CE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CE"/>
              </a:rPr>
              <a:t> at higher energies (till the next edge is reach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CE"/>
              </a:rPr>
              <a:t>At x-ray energies, the transitions are mostly from the l and k sh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8320" y="5867280"/>
            <a:ext cx="425916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al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IPCs, the pulse height was a vague indication of photon energy, but it was basically broad-band work (hard or soft) for the first generations of x-ray observat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 throughput price, you can grating disperse x-rays to get good spectral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81080" y="3733920"/>
            <a:ext cx="56041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84240" y="1187280"/>
            <a:ext cx="7174080" cy="44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5800" y="1528920"/>
            <a:ext cx="77724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-ray 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assumed that interstellar gas would limit our view of the x-ray world to very near the S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9: Gieger counters on V-2 rocket measured x-rays from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2: 1st extra-solar X-ray detection, SCO-X1 plus the diffuse x-ray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3: Uhuru was the first satellite x-ray mission (400 sour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a (DOD): x-ray and gamma ray bur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there was a whole slew of satell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O-2 (Einstein): 1977, spectral indices and imaging (first satellite with focusing mirrors). (7000 sour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: CHANDRA, XMM, HETE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lar resolution:VELA: 1˚, CHANDRA: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Resolution: VELA: 2 , ASCA: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68880" y="4592520"/>
            <a:ext cx="299880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1060560"/>
            <a:ext cx="77724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870120"/>
            <a:ext cx="77724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lar coronae (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~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retion disks of bin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N (non-ther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 remnants (cooling of shocked g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use hot ga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) in gE galaxies, groups and clu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1273320" cy="1273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952880" y="495288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066680" y="5105520"/>
            <a:ext cx="19749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343400" y="609480"/>
            <a:ext cx="4597560" cy="273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57200" y="990720"/>
            <a:ext cx="3308400" cy="4741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267080" y="3657600"/>
            <a:ext cx="46800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Reduction Skills: The Future of Groundbased Astronomy is here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HEASARC Software Packag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# HEAsoft - A unified release of the FTOOLS and XANADU packag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# FTOOLS - General FITS file utility programs and mission-specific data analysis too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# XANADU - Suite of spectral (xspec), timing (xronos), and image (ximage) analysis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# XSELECT - Multipurpose tool for filtering event files and generating images, spectra, and light curv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# XSTAR - Program for calculating physical conditions and emission spectra in photoionized ga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# fv - Interactive editor and viewer for astronomical data files in FITS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# Hera - Enables complete interactive analysis over the Internet of data products retrieved from the Browse data arch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# MAKI - A multi-mission observation visualizer and planning ut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# FITSIO - A subroutine library for reading and writing FITS files for C and Fortran programm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Other Useful Multi-mission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# IRAF/PROS - X-ray data analysis package developed and maintained by the ROSAT Science Data Center at CF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# EXSAS - Extended X-ray Scientific Analysis System for spacial, spectral, and timing analysis. Maintained by a team of the X-ray astronomy group of the MPE at Garch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ma-Ray Astr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 X-1, 1961 detected 100 pho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a satellites sent up to monitor nuclear weapons testing set the modern stage. Lots of sources away from the Earth, uniformily distributed on the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, Compton Gamma Ray Observatory was laun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ton G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TSE: Burst and transient, all sky 20-600K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SE: 0.05-10M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TEL: 1-30MeV + 1 degree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RET: 20-30MeV and 1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330336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2303280" cy="2984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918480" y="126036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I + PM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990720" y="3352680"/>
            <a:ext cx="1836720" cy="2622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34440" y="42321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648320" y="3657600"/>
            <a:ext cx="369252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434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GRET spatial and energy resolution, there is layer of spark wire grids behind tantalum foils. Electron-positron pairs produced in the foil and paths tracked through the gr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2535120"/>
            <a:ext cx="380988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ve/Data M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adsab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arvard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edu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/abstract_servic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au.arxiv.org/archive/astro-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alog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http://cdsweb.u-strasbg.fr/CD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http://simbad.u-strasbg.f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lax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http://nedwww.ipac.caltech.edu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1258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ve/Data M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cadcwww.dao.nrc.ca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n entry to almost everything: Hubble archive, DSS (use ESO version), CFHT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sdss.or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arch-http.hq.eso.org/ESO-ECF-Archive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447920" y="268200"/>
            <a:ext cx="626112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ing X-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-rays penetrate glass, weird things happen at the surface of met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concept of total internal reflectance utilizing the odd fact that n&lt;1 for wavelengths &lt; 2000Å and some conducting materi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286000" y="4952880"/>
                <a:ext cx="381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itic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ρ</m:t>
                        </m:r>
                      </m:e>
                    </m:rad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351960" y="6019920"/>
            <a:ext cx="48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ity in gm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photon energy in k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495680" y="55623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6019920" y="540972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438280" y="380880"/>
            <a:ext cx="3940200" cy="1989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4924440"/>
            <a:ext cx="748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CE"/>
              </a:rPr>
              <a:t>Surfaces need to be very good and very cl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CE"/>
              </a:rPr>
              <a:t>For CHANDRA, the small-scale smoothness is about 5 iridium atoms RM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2240" y="2860560"/>
            <a:ext cx="832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CE"/>
              </a:rPr>
              <a:t>Angles are small leading to long focal lengths, dense surfaces are better (Au, Ir), second pass of grazing incidence is useful to decrease focal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CE"/>
              </a:rPr>
              <a:t>Field is an annulus, so use a nested mirror arrang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s Proportional Counters are the basis of traditional Geiger-Mueller Coun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3276720"/>
            <a:ext cx="3581640" cy="685800"/>
          </a:xfrm>
          <a:prstGeom prst="roundRect">
            <a:avLst>
              <a:gd name="adj" fmla="val 16667"/>
            </a:avLst>
          </a:prstGeom>
          <a:solidFill>
            <a:srgbClr val="3366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114800" y="297180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259092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CE"/>
              </a:rPr>
              <a:t>Ionizing particle or pho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4419720"/>
            <a:ext cx="58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CE"/>
              </a:rPr>
              <a:t>e-/ion pair, high voltage, collisions, amplifier, pulse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3581280"/>
            <a:ext cx="304920" cy="763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3581280"/>
            <a:ext cx="304920" cy="763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3657600"/>
            <a:ext cx="1752480" cy="533520"/>
          </a:xfrm>
          <a:custGeom>
            <a:avLst/>
            <a:gdLst/>
            <a:ahLst/>
            <a:rect l="l" t="t" r="r" b="b"/>
            <a:pathLst>
              <a:path w="1104" h="336">
                <a:moveTo>
                  <a:pt x="1104" y="0"/>
                </a:moveTo>
                <a:lnTo>
                  <a:pt x="1104" y="336"/>
                </a:lnTo>
                <a:lnTo>
                  <a:pt x="48" y="336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3657600"/>
            <a:ext cx="1600200" cy="533520"/>
          </a:xfrm>
          <a:custGeom>
            <a:avLst/>
            <a:gdLst/>
            <a:ahLst/>
            <a:rect l="l" t="t" r="r" b="b"/>
            <a:pathLst>
              <a:path w="1008" h="336">
                <a:moveTo>
                  <a:pt x="0" y="0"/>
                </a:moveTo>
                <a:lnTo>
                  <a:pt x="0" y="336"/>
                </a:lnTo>
                <a:lnTo>
                  <a:pt x="1008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36194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360684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6629400" y="3416400"/>
            <a:ext cx="380880" cy="457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tle energy resolution (usually just a lower energy cutoff), little background discrimi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anode-wire versions help to localize ionization event and sort out particles from photons and give some directional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last 10 years, most missions have gone to micro-channel plates and C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7621560" cy="450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050840" y="508968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CE"/>
              </a:rPr>
              <a:t>CHANDRA MCP photon detection. OK spatial information, excellent tim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6813720" cy="5486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80840" y="6004080"/>
            <a:ext cx="31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CE"/>
              </a:rPr>
              <a:t>CHANDRA CCD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6:46:00Z</dcterms:created>
  <dc:creator>Mike Bolte</dc:creator>
  <dc:description/>
  <dc:language>en-US</dc:language>
  <cp:lastModifiedBy>Michael Bolte</cp:lastModifiedBy>
  <dcterms:modified xsi:type="dcterms:W3CDTF">2006-06-08T18:57:51Z</dcterms:modified>
  <cp:revision>63</cp:revision>
  <dc:subject/>
  <dc:title>AY257: Modern Observational Techniques</dc:title>
</cp:coreProperties>
</file>