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885-0804-4BBE-8EBF-AA6E0072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112-A2E7-485F-947C-8F7522E5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C61-0914-46D5-8434-F8C45601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3CA-F75B-41B4-9CCF-519E1567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71E-A6B7-4F92-9063-714136B6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820-42C7-4949-A26E-F0BCB5AA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75E-265B-4930-8004-95EDCBDD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F87-B4E3-4B46-AA37-94CE6156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765-50D6-4B2A-A9D6-88FC3251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0E0-922A-4EB9-8FFB-CEF0D5E7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F4E-E92A-4566-A728-1E2D53E7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279-4A65-4629-8AFE-ABD6B66B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6CFC-A0AC-4316-AAA8-CC033949D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 Astr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ye response goes to 0 at 7500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icon bandgap energy of 1.1eV means a hard cutoff in CCD response at 1.1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near-IR’: 1µ - 2.5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mid-IR’: 2.5µ - 25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far-IR’: 25µ - 350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446280" cy="3467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0" y="2971800"/>
            <a:ext cx="380880" cy="12193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-z Uni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+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@z=1.8 Ca H&amp;K `break’ redshifted to J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@z=8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32353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IR detectors were lead-sulfide, then germaniu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lo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0’s the first photo-diode (CCD-like) detectors became available with semicondutors that had smaller bandgaps than sili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505320"/>
            <a:ext cx="6098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581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12408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30481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85640" y="320040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08240" y="3184560"/>
            <a:ext cx="48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conductive: resistance a very sensitive function of T. Ran at liquid helium temperatures (4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873080" y="5226120"/>
            <a:ext cx="152640" cy="1279440"/>
          </a:xfrm>
          <a:custGeom>
            <a:avLst/>
            <a:gdLst>
              <a:gd name="textAreaLeft" fmla="*/ 0 w 152640"/>
              <a:gd name="textAreaRight" fmla="*/ 55080 w 15264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76920" y="592776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dark curren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        wavelength(µ)       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p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                     &lt;1.1µ                 160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gCdTe             0.8 - 5µ                 65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b                  1  - 5.6µ                35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As                   6  - 27µ                 10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752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considerations for IR obser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ly an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pping (highly variable backg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s are enorm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gnore detector dark/readout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scope designers be car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ff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pup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filled seco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mospheric Wind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916760" cy="4210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00200" y="2971800"/>
            <a:ext cx="152280" cy="2362320"/>
          </a:xfrm>
          <a:prstGeom prst="rect">
            <a:avLst/>
          </a:prstGeom>
          <a:solidFill>
            <a:srgbClr val="ff00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971800"/>
            <a:ext cx="228600" cy="2362320"/>
          </a:xfrm>
          <a:prstGeom prst="rect">
            <a:avLst/>
          </a:prstGeom>
          <a:solidFill>
            <a:srgbClr val="ff00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2971800"/>
            <a:ext cx="228600" cy="2362320"/>
          </a:xfrm>
          <a:prstGeom prst="rect">
            <a:avLst/>
          </a:prstGeom>
          <a:solidFill>
            <a:srgbClr val="ff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971800"/>
            <a:ext cx="533160" cy="2362320"/>
          </a:xfrm>
          <a:prstGeom prst="rect">
            <a:avLst/>
          </a:prstGeom>
          <a:solidFill>
            <a:srgbClr val="ff00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971800"/>
            <a:ext cx="380880" cy="2362320"/>
          </a:xfrm>
          <a:prstGeom prst="rect">
            <a:avLst/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2971800"/>
            <a:ext cx="2971800" cy="2362320"/>
          </a:xfrm>
          <a:prstGeom prst="rect">
            <a:avLst/>
          </a:prstGeom>
          <a:solidFill>
            <a:srgbClr val="ff00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12360" y="539424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H K     L     M                                N             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1752480"/>
            <a:ext cx="7315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6480" y="33368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12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137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66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880" y="188928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720" y="341316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720" y="493704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0800" y="5699160"/>
            <a:ext cx="68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µ                                   10µ                                 100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715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5029200"/>
            <a:ext cx="1676160" cy="685800"/>
          </a:xfrm>
          <a:custGeom>
            <a:avLst/>
            <a:gdLst/>
            <a:ahLst/>
            <a:rect l="l" t="t" r="r" b="b"/>
            <a:pathLst>
              <a:path w="1056" h="432">
                <a:moveTo>
                  <a:pt x="0" y="0"/>
                </a:moveTo>
                <a:cubicBezTo>
                  <a:pt x="92" y="28"/>
                  <a:pt x="184" y="56"/>
                  <a:pt x="288" y="96"/>
                </a:cubicBezTo>
                <a:cubicBezTo>
                  <a:pt x="392" y="136"/>
                  <a:pt x="496" y="184"/>
                  <a:pt x="624" y="240"/>
                </a:cubicBezTo>
                <a:cubicBezTo>
                  <a:pt x="752" y="296"/>
                  <a:pt x="904" y="364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4114800"/>
            <a:ext cx="152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13800" y="3425760"/>
            <a:ext cx="38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yleigh scattered sun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2146320"/>
            <a:ext cx="6172200" cy="3568680"/>
          </a:xfrm>
          <a:custGeom>
            <a:avLst/>
            <a:gdLst/>
            <a:ahLst/>
            <a:rect l="l" t="t" r="r" b="b"/>
            <a:pathLst>
              <a:path w="3888" h="2248">
                <a:moveTo>
                  <a:pt x="0" y="2248"/>
                </a:moveTo>
                <a:cubicBezTo>
                  <a:pt x="80" y="2048"/>
                  <a:pt x="160" y="1848"/>
                  <a:pt x="240" y="1672"/>
                </a:cubicBezTo>
                <a:cubicBezTo>
                  <a:pt x="320" y="1496"/>
                  <a:pt x="360" y="1400"/>
                  <a:pt x="480" y="1192"/>
                </a:cubicBezTo>
                <a:cubicBezTo>
                  <a:pt x="600" y="984"/>
                  <a:pt x="816" y="608"/>
                  <a:pt x="960" y="424"/>
                </a:cubicBezTo>
                <a:cubicBezTo>
                  <a:pt x="1104" y="240"/>
                  <a:pt x="1224" y="152"/>
                  <a:pt x="1344" y="88"/>
                </a:cubicBezTo>
                <a:cubicBezTo>
                  <a:pt x="1464" y="24"/>
                  <a:pt x="1464" y="0"/>
                  <a:pt x="1680" y="40"/>
                </a:cubicBezTo>
                <a:cubicBezTo>
                  <a:pt x="1896" y="80"/>
                  <a:pt x="2272" y="168"/>
                  <a:pt x="2640" y="328"/>
                </a:cubicBezTo>
                <a:cubicBezTo>
                  <a:pt x="3008" y="488"/>
                  <a:pt x="3448" y="744"/>
                  <a:pt x="3888" y="10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971440" y="44193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09520" y="432756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3K black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2057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38098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89840" y="219384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133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3840" y="463248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tmosphere, telesco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5849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7772400" cy="5329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794400" y="144792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can be res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809880"/>
            <a:ext cx="57913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23880" y="3886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4640" y="44038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diacal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70040" y="402264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33000">
            <a:off x="4915080" y="723960"/>
            <a:ext cx="304560" cy="2666880"/>
          </a:xfrm>
          <a:custGeom>
            <a:avLst/>
            <a:gdLst>
              <a:gd name="textAreaLeft" fmla="*/ 0 w 304560"/>
              <a:gd name="textAreaRight" fmla="*/ 109800 w 30456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2209680"/>
            <a:ext cx="685800" cy="2362320"/>
          </a:xfrm>
          <a:custGeom>
            <a:avLst/>
            <a:gdLst/>
            <a:ahLst/>
            <a:rect l="l" t="t" r="r" b="b"/>
            <a:pathLst>
              <a:path w="432" h="1488">
                <a:moveTo>
                  <a:pt x="0" y="1488"/>
                </a:moveTo>
                <a:cubicBezTo>
                  <a:pt x="44" y="1356"/>
                  <a:pt x="88" y="1224"/>
                  <a:pt x="144" y="1008"/>
                </a:cubicBezTo>
                <a:cubicBezTo>
                  <a:pt x="200" y="792"/>
                  <a:pt x="288" y="360"/>
                  <a:pt x="336" y="192"/>
                </a:cubicBezTo>
                <a:cubicBezTo>
                  <a:pt x="384" y="24"/>
                  <a:pt x="408" y="12"/>
                  <a:pt x="432" y="0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7240" y="609480"/>
            <a:ext cx="7767720" cy="5486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39880" y="1828800"/>
            <a:ext cx="6261120" cy="2362320"/>
          </a:xfrm>
          <a:custGeom>
            <a:avLst/>
            <a:gdLst/>
            <a:ahLst/>
            <a:rect l="l" t="t" r="r" b="b"/>
            <a:pathLst>
              <a:path w="3944" h="1488">
                <a:moveTo>
                  <a:pt x="56" y="1488"/>
                </a:moveTo>
                <a:cubicBezTo>
                  <a:pt x="28" y="1460"/>
                  <a:pt x="0" y="1432"/>
                  <a:pt x="344" y="1248"/>
                </a:cubicBezTo>
                <a:cubicBezTo>
                  <a:pt x="688" y="1064"/>
                  <a:pt x="1520" y="592"/>
                  <a:pt x="2120" y="384"/>
                </a:cubicBezTo>
                <a:cubicBezTo>
                  <a:pt x="2720" y="176"/>
                  <a:pt x="3332" y="88"/>
                  <a:pt x="39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75320" y="28908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vertical scales on plo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35120" y="609480"/>
            <a:ext cx="7673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70000" y="609480"/>
            <a:ext cx="680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ctic dust extinction la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.2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0.1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.5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 stuff: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e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lanck) = 2898/T (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l stars emitted energy peak ~ 1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ant planets                              ~ 6-15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st re-radiation                        ~ 20-200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4029120"/>
            <a:ext cx="59691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6:46:00Z</dcterms:created>
  <dc:creator>Mike Bolte</dc:creator>
  <dc:description/>
  <dc:language>en-US</dc:language>
  <cp:lastModifiedBy>Mike Bolte</cp:lastModifiedBy>
  <dcterms:modified xsi:type="dcterms:W3CDTF">2004-04-29T21:09:57Z</dcterms:modified>
  <cp:revision>36</cp:revision>
  <dc:subject/>
  <dc:title>AY257: Modern Observational Techniques</dc:title>
</cp:coreProperties>
</file>