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00B-D42B-4E57-80F7-9DBDA350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462-7FD9-4AA7-86B7-49B8BE1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14B-EE52-4A65-B8A2-AF76978D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7CA-E34C-4EB8-962A-1B49530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5E8-1320-4237-AF66-1466ED20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D24-BAC0-403F-AD20-FA546BB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4DC-5E2D-46D7-8758-5F8E18F8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E6B-B759-4923-9045-461580E9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887-FEF5-47EC-8726-F83E78C4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661-3931-4FF3-A3FE-F333A3C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516-91F6-4F45-BC39-4F0F83F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E75-2780-4BC8-85CD-CEFD617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611-F6B5-4896-A4CE-3482D963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RAF tri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9 save as option -- jp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convert jpg -&gt; .eps for inclusion into latex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sample .tex document at class www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RAF graphics window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.snap ep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output a postscript file of whatever you have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p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E = isoph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= control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nver =                 0.05) convergency criterion (maximum harmonic amplit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init  =                   10) minimun no. of iterations at each 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xit  =                   50) maximun no. of iterations at each 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center=                   no) hold center fix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ellip =                   no) hold ellipticity fix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pa    =                   no) hold position angle fix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ander =                INDEF) maximum wander in successive isophote ce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xgerr=                  0.5) maximum acceptable gradient relativ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lthres=                   1.) object locator's k-sigma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oft   =                   no) soft stop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de   =                   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p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E = isoph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= geom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0     =                INDEF) initial isophote cente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y0     =                INDEF) initial isophote cente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llip0 =                  0.2) initial ellip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a0    =                  20.) initial position angle (degre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ma0   =                  10.) initial semi-major axis len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insma =                   0.) minimum semi-major axis len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xsma =                INDEF) maximum semi-major axis len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tep   =                  0.1) sma step between successive elli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inear =                   no) linear sma step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xrit =                INDEF) maximum sma lenght for iterativ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cente=                  yes) allows finding routine to re-center x0-y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ylearn=                  yes) updates pset with new x0-y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hysica=                  yes) physical coordinate syste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96252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2096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1337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ten it is a good idea to put in start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p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AGE = isoph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= sample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tegrm=            bi-linear) area integratio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sclip =                   3.) sigma-clip criterion for upper deviant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sclip =                   3.) sigma-clip criterion for lower deviant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clip  =                    0) number of sigma-clip it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flag  =                  0.5) acceptable fraction of flagged data po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device=                 none) graphics device for ploting intensity s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sample=                 none) tables with intensity s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bsangl=                  yes) sample angles refer to image coord. system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armoni=                 none) optional harmonic numbers to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ode   =                   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406760"/>
            <a:ext cx="76212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124080"/>
            <a:ext cx="152280" cy="731880"/>
          </a:xfrm>
          <a:custGeom>
            <a:avLst/>
            <a:gdLst>
              <a:gd name="textAreaLeft" fmla="*/ 0 w 152280"/>
              <a:gd name="textAreaRight" fmla="*/ 55080 w 15228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74600" y="32608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mport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lipping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mmon to pre-clean fr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point sources with DAOP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saturated stars and CCD f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other gala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useful to input starting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74600" y="609480"/>
            <a:ext cx="699300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8705600">
            <a:off x="3116160" y="2277720"/>
            <a:ext cx="3218040" cy="197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8705600">
            <a:off x="3352680" y="2410920"/>
            <a:ext cx="2770200" cy="170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mean and RMS pixel intensity for annulus, toss any values abo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 + n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1219320"/>
            <a:ext cx="60984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se produces a Table (in STSDAS table format, ttools.tprint allows you to view this) with the parameters of the best fitting ellipses along the semi-major ax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ting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 r giv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rface brightness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809880"/>
            <a:ext cx="7102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metry is the usu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2.5log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ixels in r+∆r) - (npix • s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50274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image name (test3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table name (test3.tab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object locator...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 Semi-    Isophote      Ellipticity     Position   Grad.  Data Flag Iter. St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 major      mean                         Angle      rel.                 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 axis     intensity                                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(pixel)                                 (deg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.00  4219.62(527.26) 0.123(0.002) -70.00( 0.54) 0.125  234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4.00  3773.10(481.03) 0.123(0.002) -70.00( 0.59) 0.122  258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8.40  3384.59(426.91) 0.123(0.002) -70.00( 0.52) 0.116  284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3.24  3038.81(384.52) 0.123(0.002) -70.00( 0.47) 0.110  312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8.56  2725.05(344.36) 0.123(0.002) -70.00( 0.56) 0.097  343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42  2431.91(297.83) 0.123(0.002) -70.00( 0.38) 0.091  378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34.52   556.57(  7.44) 0.273(0.009) -18.68( 1.03) 0.101 2602 760    17  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6.36  4728.37(566.24) 0.123(0.003) -70.00( 0.70) 0.125  213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.06  5287.32(620.80) 0.123(0.005) -70.00( 1.36) 0.129  193   0    50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73 51976.14(8482.2) 0.269(INDEF) -45.76(INDEF) 1.460   13   0     1 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66 53679.33(7585.3) 0.269(INDEF) -45.76(INDEF) 1.853   13   0     1 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60 55147.36(7006.2) 0.269(INDEF) -45.76(INDEF) 1.951   13   0     1 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55 56150.06(6355.0) 0.269(INDEF) -45.76(INDEF) 2.616   13   0     1 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you have run ellipse and produced a table. The task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mod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uild a smooth image of the family of ellipses. Subtracting this from the original frame will tell you how good the fit is and will reveal non-axially symetric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7240" y="609480"/>
            <a:ext cx="66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ace Phot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57440" cy="342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76920" y="2057400"/>
            <a:ext cx="3657600" cy="409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pproach of aperture photometry works OK for some purpo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=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2.5(cnt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π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working with much larger aper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ne to cont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ky determination even more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ften want to know more than total brigh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27240" y="609480"/>
            <a:ext cx="66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27240" y="609480"/>
            <a:ext cx="66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27240" y="609480"/>
            <a:ext cx="6689520" cy="548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4800600" y="457200"/>
            <a:ext cx="76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23920" y="2590920"/>
            <a:ext cx="3048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105160" y="3047760"/>
            <a:ext cx="228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7520" y="604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ate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19200" y="2117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6400" y="547056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ellipt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7840" y="55468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job of 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480" y="411480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surface brightness note, in the near Universe, surface brightness is distant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B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/(area of galax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71800" y="4723920"/>
            <a:ext cx="3733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486400"/>
            <a:ext cx="3809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257800"/>
            <a:ext cx="165240" cy="30492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0" y="0"/>
                </a:moveTo>
                <a:cubicBezTo>
                  <a:pt x="44" y="32"/>
                  <a:pt x="88" y="64"/>
                  <a:pt x="96" y="96"/>
                </a:cubicBezTo>
                <a:cubicBezTo>
                  <a:pt x="104" y="128"/>
                  <a:pt x="76" y="160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720" y="57913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ngle o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1467400">
            <a:off x="6400800" y="4457880"/>
            <a:ext cx="533520" cy="1942920"/>
          </a:xfrm>
          <a:prstGeom prst="ellipse">
            <a:avLst/>
          </a:prstGeom>
          <a:gradFill rotWithShape="0">
            <a:gsLst>
              <a:gs pos="0">
                <a:srgbClr val="fb2207"/>
              </a:gs>
              <a:gs pos="100000">
                <a:srgbClr val="730f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467400">
            <a:off x="4800600" y="4457880"/>
            <a:ext cx="533520" cy="1942920"/>
          </a:xfrm>
          <a:prstGeom prst="ellipse">
            <a:avLst/>
          </a:prstGeom>
          <a:gradFill rotWithShape="0">
            <a:gsLst>
              <a:gs pos="0">
                <a:srgbClr val="fb2207"/>
              </a:gs>
              <a:gs pos="100000">
                <a:srgbClr val="730f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95480" y="54100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057400"/>
            <a:ext cx="306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ness drop off with distance is exactly compensated by larger surface area of galaxy contrib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galaxies and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(starting with Kron in 1979) simple star-galaxy separation was the go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ays packages do a lot m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l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metry shape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AS Jarvis &amp; Tyson, 1981, AJ 86, 4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P Yee, 1991, PASP, 103 3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tractor Bertin &amp; Arnouts, 1996, A&amp;A Sup. Ser. 117,3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-Galaxy 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axies are resolved, stars 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ethods use various approaches to comparing the amount of light at large and small rad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3809880"/>
            <a:ext cx="380988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45720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2320" y="624852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038480"/>
            <a:ext cx="3429000" cy="1905120"/>
          </a:xfrm>
          <a:custGeom>
            <a:avLst/>
            <a:gdLst/>
            <a:ahLst/>
            <a:rect l="l" t="t" r="r" b="b"/>
            <a:pathLst>
              <a:path w="2160" h="1200">
                <a:moveTo>
                  <a:pt x="0" y="1104"/>
                </a:moveTo>
                <a:cubicBezTo>
                  <a:pt x="232" y="1152"/>
                  <a:pt x="464" y="1200"/>
                  <a:pt x="624" y="1056"/>
                </a:cubicBezTo>
                <a:cubicBezTo>
                  <a:pt x="784" y="912"/>
                  <a:pt x="880" y="416"/>
                  <a:pt x="960" y="240"/>
                </a:cubicBezTo>
                <a:cubicBezTo>
                  <a:pt x="1040" y="64"/>
                  <a:pt x="1056" y="0"/>
                  <a:pt x="1104" y="0"/>
                </a:cubicBezTo>
                <a:cubicBezTo>
                  <a:pt x="1152" y="0"/>
                  <a:pt x="1176" y="80"/>
                  <a:pt x="1248" y="240"/>
                </a:cubicBezTo>
                <a:cubicBezTo>
                  <a:pt x="1320" y="400"/>
                  <a:pt x="1384" y="816"/>
                  <a:pt x="1536" y="960"/>
                </a:cubicBezTo>
                <a:cubicBezTo>
                  <a:pt x="1688" y="1104"/>
                  <a:pt x="1924" y="1104"/>
                  <a:pt x="2160" y="1104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317840"/>
            <a:ext cx="3657600" cy="1473480"/>
          </a:xfrm>
          <a:custGeom>
            <a:avLst/>
            <a:gdLst/>
            <a:ahLst/>
            <a:rect l="l" t="t" r="r" b="b"/>
            <a:pathLst>
              <a:path w="2304" h="928">
                <a:moveTo>
                  <a:pt x="0" y="928"/>
                </a:moveTo>
                <a:cubicBezTo>
                  <a:pt x="200" y="824"/>
                  <a:pt x="400" y="720"/>
                  <a:pt x="528" y="640"/>
                </a:cubicBezTo>
                <a:cubicBezTo>
                  <a:pt x="656" y="560"/>
                  <a:pt x="664" y="552"/>
                  <a:pt x="768" y="448"/>
                </a:cubicBezTo>
                <a:cubicBezTo>
                  <a:pt x="872" y="344"/>
                  <a:pt x="1008" y="0"/>
                  <a:pt x="1152" y="16"/>
                </a:cubicBezTo>
                <a:cubicBezTo>
                  <a:pt x="1296" y="32"/>
                  <a:pt x="1480" y="424"/>
                  <a:pt x="1632" y="544"/>
                </a:cubicBezTo>
                <a:cubicBezTo>
                  <a:pt x="1784" y="664"/>
                  <a:pt x="1952" y="688"/>
                  <a:pt x="2064" y="736"/>
                </a:cubicBezTo>
                <a:cubicBezTo>
                  <a:pt x="2176" y="784"/>
                  <a:pt x="2240" y="808"/>
                  <a:pt x="2304" y="8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9960" y="3962520"/>
            <a:ext cx="533520" cy="2133360"/>
          </a:xfrm>
          <a:prstGeom prst="rect">
            <a:avLst/>
          </a:prstGeom>
          <a:solidFill>
            <a:srgbClr val="00cc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962520"/>
            <a:ext cx="3352680" cy="1904760"/>
          </a:xfrm>
          <a:prstGeom prst="rect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486400" y="41148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76400" y="3718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04280" y="43275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172200" y="46483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809880"/>
            <a:ext cx="22096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-212400" y="428328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0320" y="585144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502920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487692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2360" y="510552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8680" y="477036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46400" y="457200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26708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403848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0080" y="469440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522756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0600" y="515160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60600" y="426708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9200" y="522756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41480" y="408456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23720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0760" y="423720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03400" y="416088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55680" y="419112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07528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10552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25780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03400" y="533412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95288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02920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6560" y="5029200"/>
            <a:ext cx="19224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487692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19112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334120"/>
            <a:ext cx="191880" cy="1825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581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520" y="55623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57400" y="563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9320" y="32004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09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89640" y="615636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no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mall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arge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mag/peak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/average surface brigh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PHOT CHI (PSF fit/predicted PSF f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roR50/petroR90 (SD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talk abo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ment analy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828800" y="3962520"/>
                <a:ext cx="94140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657600" y="419112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thing in y. n=1 is centroid, n=2 is varianc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240" y="579132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; ratio of second moments useful for ellipticity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66720" y="220932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ly used package these days is Sextractor (although for pure star-galaxy separation it is hard to beat using the difference of two apertur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125880" cy="31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tin &amp; Arnouts, 1996, A&amp;AS, 117, 3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’s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tractor for Dummies v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or good surface photometry, but good for classification and rough photometric and structural parameter derivation for larg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map (sky deter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objects (threshol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l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686480" cy="3708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419112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sho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ternati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eak find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contiguous pixels above a threshold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ts area, threshold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ombine with a smoothing fil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bl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d on multiple-pass thres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ong history of surface photometry with CC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P Davis et al., AJ, 90,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rzejewski, MNRAS, 226, 747, 19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it (or find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ophote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most common procedure is to fit elliptical isoph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are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llipticity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R (semi-major axis) and position 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tractor Star/Galaxy 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alk about neural-net algorithms, but in the end it is a moment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stellarity’’. Typically test it with artificial stars and find it is very good to some limiting mag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3665520" cy="2415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3913200" cy="24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4495680" y="4267080"/>
            <a:ext cx="289584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2280" y="62326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g going bad at R~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p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5848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17392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 Astr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response goes to 0 at 7500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 bandgap energy of 1.1eV means a hard cutoff in CCD response at 1.1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near-IR’: 1µ - 2.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mid-IR’: 2.5µ - 2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far-IR’: 25µ - 350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446280" cy="3467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0" y="2971800"/>
            <a:ext cx="380880" cy="12193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ospheric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6760" cy="4210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00200" y="2971800"/>
            <a:ext cx="152280" cy="2362320"/>
          </a:xfrm>
          <a:prstGeom prst="rect">
            <a:avLst/>
          </a:prstGeom>
          <a:solidFill>
            <a:srgbClr val="ff00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971800"/>
            <a:ext cx="228600" cy="2362320"/>
          </a:xfrm>
          <a:prstGeom prst="rect">
            <a:avLst/>
          </a:prstGeom>
          <a:solidFill>
            <a:srgbClr val="ff00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2971800"/>
            <a:ext cx="228600" cy="2362320"/>
          </a:xfrm>
          <a:prstGeom prst="rect">
            <a:avLst/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971800"/>
            <a:ext cx="533160" cy="2362320"/>
          </a:xfrm>
          <a:prstGeom prst="rect">
            <a:avLst/>
          </a:prstGeom>
          <a:solidFill>
            <a:srgbClr val="ff00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2971800"/>
            <a:ext cx="380880" cy="2362320"/>
          </a:xfrm>
          <a:prstGeom prst="rect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971800" cy="2362320"/>
          </a:xfrm>
          <a:prstGeom prst="rect">
            <a:avLst/>
          </a:prstGeom>
          <a:solidFill>
            <a:srgbClr val="ff00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12360" y="539424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H K     L     M                                N            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752480"/>
            <a:ext cx="7315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6480" y="333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12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137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466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7880" y="18892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720" y="34131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720" y="49370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0800" y="569916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µ                                   10µ                                 100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5715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029200"/>
            <a:ext cx="167616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0" y="0"/>
                </a:moveTo>
                <a:cubicBezTo>
                  <a:pt x="92" y="28"/>
                  <a:pt x="184" y="56"/>
                  <a:pt x="288" y="96"/>
                </a:cubicBezTo>
                <a:cubicBezTo>
                  <a:pt x="392" y="136"/>
                  <a:pt x="496" y="184"/>
                  <a:pt x="624" y="240"/>
                </a:cubicBezTo>
                <a:cubicBezTo>
                  <a:pt x="752" y="296"/>
                  <a:pt x="904" y="364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114800"/>
            <a:ext cx="152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13800" y="3425760"/>
            <a:ext cx="38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yleigh scattered sun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146320"/>
            <a:ext cx="6172200" cy="3568680"/>
          </a:xfrm>
          <a:custGeom>
            <a:avLst/>
            <a:gdLst/>
            <a:ahLst/>
            <a:rect l="l" t="t" r="r" b="b"/>
            <a:pathLst>
              <a:path w="3888" h="2248">
                <a:moveTo>
                  <a:pt x="0" y="2248"/>
                </a:moveTo>
                <a:cubicBezTo>
                  <a:pt x="80" y="2048"/>
                  <a:pt x="160" y="1848"/>
                  <a:pt x="240" y="1672"/>
                </a:cubicBezTo>
                <a:cubicBezTo>
                  <a:pt x="320" y="1496"/>
                  <a:pt x="360" y="1400"/>
                  <a:pt x="480" y="1192"/>
                </a:cubicBezTo>
                <a:cubicBezTo>
                  <a:pt x="600" y="984"/>
                  <a:pt x="816" y="608"/>
                  <a:pt x="960" y="424"/>
                </a:cubicBezTo>
                <a:cubicBezTo>
                  <a:pt x="1104" y="240"/>
                  <a:pt x="1224" y="152"/>
                  <a:pt x="1344" y="88"/>
                </a:cubicBezTo>
                <a:cubicBezTo>
                  <a:pt x="1464" y="24"/>
                  <a:pt x="1464" y="0"/>
                  <a:pt x="1680" y="40"/>
                </a:cubicBezTo>
                <a:cubicBezTo>
                  <a:pt x="1896" y="80"/>
                  <a:pt x="2272" y="168"/>
                  <a:pt x="2640" y="328"/>
                </a:cubicBezTo>
                <a:cubicBezTo>
                  <a:pt x="3008" y="488"/>
                  <a:pt x="3448" y="744"/>
                  <a:pt x="3888" y="10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2971440" y="44193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09520" y="432756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3K black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89840" y="2193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2133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3840" y="463248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tmosphere,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5849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772400" cy="532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794400" y="144792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can be re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3809880"/>
            <a:ext cx="5791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523880" y="3886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24640" y="44038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diaca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70040" y="402264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33000">
            <a:off x="4915080" y="72396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2209680"/>
            <a:ext cx="685800" cy="2362320"/>
          </a:xfrm>
          <a:custGeom>
            <a:avLst/>
            <a:gdLst/>
            <a:ahLst/>
            <a:rect l="l" t="t" r="r" b="b"/>
            <a:pathLst>
              <a:path w="432" h="1488">
                <a:moveTo>
                  <a:pt x="0" y="1488"/>
                </a:moveTo>
                <a:cubicBezTo>
                  <a:pt x="44" y="1356"/>
                  <a:pt x="88" y="1224"/>
                  <a:pt x="144" y="1008"/>
                </a:cubicBezTo>
                <a:cubicBezTo>
                  <a:pt x="200" y="792"/>
                  <a:pt x="288" y="360"/>
                  <a:pt x="336" y="192"/>
                </a:cubicBezTo>
                <a:cubicBezTo>
                  <a:pt x="384" y="24"/>
                  <a:pt x="408" y="12"/>
                  <a:pt x="432" y="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87240" y="609480"/>
            <a:ext cx="7767720" cy="5486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39880" y="1828800"/>
            <a:ext cx="6261120" cy="2362320"/>
          </a:xfrm>
          <a:custGeom>
            <a:avLst/>
            <a:gdLst/>
            <a:ahLst/>
            <a:rect l="l" t="t" r="r" b="b"/>
            <a:pathLst>
              <a:path w="3944" h="1488">
                <a:moveTo>
                  <a:pt x="56" y="1488"/>
                </a:moveTo>
                <a:cubicBezTo>
                  <a:pt x="28" y="1460"/>
                  <a:pt x="0" y="1432"/>
                  <a:pt x="344" y="1248"/>
                </a:cubicBezTo>
                <a:cubicBezTo>
                  <a:pt x="688" y="1064"/>
                  <a:pt x="1520" y="592"/>
                  <a:pt x="2120" y="384"/>
                </a:cubicBezTo>
                <a:cubicBezTo>
                  <a:pt x="2720" y="176"/>
                  <a:pt x="3332" y="88"/>
                  <a:pt x="39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5320" y="2890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vertical scales on plo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35120" y="609480"/>
            <a:ext cx="767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400000">
            <a:off x="761760" y="-304560"/>
            <a:ext cx="2933640" cy="4076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601560"/>
            <a:ext cx="3886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guesses for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.a., then compare the ellipse with real data all along the ellipse (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)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0040" y="4251240"/>
            <a:ext cx="145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45280" y="527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2670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3828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0040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8128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24280" y="44193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4197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44197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4197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181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04800" y="4175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isoph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170000" y="609480"/>
            <a:ext cx="680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ctic dust extinction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.2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0.1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.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 stuff: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anck) = 2898/T (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l stars emitted energy peak ~ 1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ant planets                              ~ 6-15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st re-radiation                        ~ 20-200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295280" y="4029120"/>
            <a:ext cx="5969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-z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+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z=1.8 Ca H&amp;K `break’ redshifted to J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z=8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2353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IR detectors were lead-sulfide, then germani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lo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’s the first photo-diode (CCD-like) detectors became available with semicondutors that had smaller bandgaps than sil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505320"/>
            <a:ext cx="6098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312408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30481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285640" y="320040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08240" y="318456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conductive: resistance a very sensitive function of T. Ran at liquid helium temperatures (4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1873080" y="5226120"/>
            <a:ext cx="152640" cy="1279440"/>
          </a:xfrm>
          <a:custGeom>
            <a:avLst/>
            <a:gdLst>
              <a:gd name="textAreaLeft" fmla="*/ 0 w 152640"/>
              <a:gd name="textAreaRight" fmla="*/ 55080 w 15264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6920" y="59277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dark curre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        wavelength(µ)      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                     &lt;1.1µ                 160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gCdTe             0.8 - 5µ                 65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b                  1  - 5.6µ                35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s                   6  - 27µ                 10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onsiderations for IR obser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ly an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pping (highly variable backg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s are enor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gnore detector dark/readout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scope designers be c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ff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filled seco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20271600">
            <a:off x="1294920" y="1752480"/>
            <a:ext cx="28958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824200">
            <a:off x="1295280" y="1752120"/>
            <a:ext cx="2895840" cy="1143000"/>
          </a:xfrm>
          <a:prstGeom prst="ellipse">
            <a:avLst/>
          </a:prstGeom>
          <a:noFill/>
          <a:ln w="9360">
            <a:solidFill>
              <a:srgbClr val="fb2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19320" y="1676520"/>
            <a:ext cx="30477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666880" y="15998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8200" y="1658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523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06080" y="59364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ted isoph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isoph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447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819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30640" y="1996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31200" y="29163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1828800"/>
            <a:ext cx="2209680" cy="698400"/>
          </a:xfrm>
          <a:custGeom>
            <a:avLst/>
            <a:gdLst/>
            <a:ahLst/>
            <a:rect l="l" t="t" r="r" b="b"/>
            <a:pathLst>
              <a:path w="1392" h="440">
                <a:moveTo>
                  <a:pt x="0" y="432"/>
                </a:moveTo>
                <a:cubicBezTo>
                  <a:pt x="120" y="216"/>
                  <a:pt x="240" y="0"/>
                  <a:pt x="384" y="0"/>
                </a:cubicBezTo>
                <a:cubicBezTo>
                  <a:pt x="528" y="0"/>
                  <a:pt x="696" y="424"/>
                  <a:pt x="864" y="432"/>
                </a:cubicBezTo>
                <a:cubicBezTo>
                  <a:pt x="1032" y="440"/>
                  <a:pt x="1212" y="244"/>
                  <a:pt x="13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600" y="3429000"/>
            <a:ext cx="77626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ot and iterate o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.a.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inimize the coefficients in an expression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ly affec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a.             “        “    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“        “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pecif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295280" y="1219320"/>
                <a:ext cx="3811680" cy="40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jor axis cente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inor axis cente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: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flipH="1">
            <a:off x="4190760" y="4724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99160" y="447984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along the semi-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finding the best-fitting elliptical isophotes, the residuals are often interesting. F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I = I</a:t>
            </a:r>
            <a:r>
              <a:rPr b="0" lang="en-US" sz="3200" spc="-1" strike="noStrike" baseline="-25000">
                <a:solidFill>
                  <a:srgbClr val="fb2207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 + A</a:t>
            </a:r>
            <a:r>
              <a:rPr b="0" lang="en-US" sz="3200" spc="-1" strike="noStrike" baseline="-25000">
                <a:solidFill>
                  <a:srgbClr val="fb2207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sin(n</a:t>
            </a:r>
            <a:r>
              <a:rPr b="0" lang="en-US" sz="3200" spc="-1" strike="noStrike">
                <a:solidFill>
                  <a:srgbClr val="fb2207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) + B</a:t>
            </a:r>
            <a:r>
              <a:rPr b="0" lang="en-US" sz="3200" spc="-1" strike="noStrike" baseline="-25000">
                <a:solidFill>
                  <a:srgbClr val="fb2207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cos(n</a:t>
            </a:r>
            <a:r>
              <a:rPr b="0" lang="en-US" sz="3200" spc="-1" strike="noStrike">
                <a:solidFill>
                  <a:srgbClr val="fb2207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b2207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ready minimized n=1 and n=2, n=3 is usually not significant, 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s negative for ``Boxy’’ isoph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itive for ``disky’’ isoph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ace Photometry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carry out surface photometry measu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class will use a Jedrxxxx-based set of algorithms available via IRAF in the STScI STSDAS set of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sdas.analysis.isoph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sdas isophote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model        geompar@      isomap        magpar@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par@   isoexam       isopall       samplepar@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ipse       isoimap       isoplot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90920"/>
            <a:ext cx="8380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523880" y="25909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90920"/>
            <a:ext cx="8380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981080"/>
            <a:ext cx="8384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57800" y="34894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52680" y="2590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6:46:00Z</dcterms:created>
  <dc:creator>Mike Bolte</dc:creator>
  <dc:description/>
  <dc:language>en-US</dc:language>
  <cp:lastModifiedBy>Michael Bolte</cp:lastModifiedBy>
  <dcterms:modified xsi:type="dcterms:W3CDTF">2006-04-27T22:43:19Z</dcterms:modified>
  <cp:revision>37</cp:revision>
  <dc:subject/>
  <dc:title>AY257: Modern Observational Techniques</dc:title>
</cp:coreProperties>
</file>